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ct" ContentType="image/x-pict"/>
  <Override PartName="/ppt/media/image4.png" ContentType="image/png"/>
  <Override PartName="/ppt/media/image5.pct" ContentType="image/x-pi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2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3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4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5DEB187-5D16-4842-8697-8025D5F3E5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8A52803-5EDA-4B50-AC2A-50A90FD495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F80551-03D7-4C0F-BA7A-27D986669D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58960" y="131400"/>
            <a:ext cx="685152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784548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63360" y="3974040"/>
            <a:ext cx="784548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20C669-0E23-4A77-AC2E-41B8ECAB47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58960" y="131400"/>
            <a:ext cx="685152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83480" y="129060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63360" y="397404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83480" y="397404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B9501C-DEFF-4AF2-A069-8CD1E3DE1E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58960" y="131400"/>
            <a:ext cx="685152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25261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16200" y="1290600"/>
            <a:ext cx="25261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69040" y="1290600"/>
            <a:ext cx="25261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63360" y="3974040"/>
            <a:ext cx="25261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16200" y="3974040"/>
            <a:ext cx="25261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69040" y="3974040"/>
            <a:ext cx="25261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A941CB-A768-4A8D-95E5-248E6BCDD81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58960" y="131400"/>
            <a:ext cx="685152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63360" y="1290600"/>
            <a:ext cx="7845480" cy="513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9EEB69-F86F-47BE-BD40-179572C47CF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58960" y="131400"/>
            <a:ext cx="685152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784548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71BA24-97BE-4F54-A961-51AD81443D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58960" y="131400"/>
            <a:ext cx="685152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382824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83480" y="1290600"/>
            <a:ext cx="382824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91BC2B-5823-429F-AFF4-BD3D3C441A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58960" y="131400"/>
            <a:ext cx="685152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AB2534-92BF-4200-AA46-2240CA8DBF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58960" y="131400"/>
            <a:ext cx="6851520" cy="245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89B5EC-7596-49C2-8661-FFBC1774D4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58960" y="131400"/>
            <a:ext cx="685152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83480" y="1290600"/>
            <a:ext cx="382824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63360" y="397404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9CD585-60F9-4A43-9CAE-8C35343085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58960" y="131400"/>
            <a:ext cx="685152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382824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83480" y="129060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83480" y="397404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A03CD5-B621-4BE6-A9CB-6B8B96C791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58960" y="131400"/>
            <a:ext cx="685152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83480" y="129060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63360" y="3974040"/>
            <a:ext cx="784548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9BF4F6-07C9-4793-BEEF-687AC6BB0D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rcRect l="0" t="0" r="0" b="11643"/>
          <a:stretch/>
        </p:blipFill>
        <p:spPr>
          <a:xfrm>
            <a:off x="0" y="0"/>
            <a:ext cx="9144000" cy="60595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963360" y="1290600"/>
            <a:ext cx="784548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-239760">
              <a:spcBef>
                <a:spcPts val="75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7640" indent="-1666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5680" indent="-22392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593720" indent="-22356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593720" indent="-22356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593720" indent="-22356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758960" y="131400"/>
            <a:ext cx="685152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Oval 10"/>
          <p:cNvSpPr/>
          <p:nvPr/>
        </p:nvSpPr>
        <p:spPr>
          <a:xfrm>
            <a:off x="6480" y="0"/>
            <a:ext cx="1419120" cy="1254240"/>
          </a:xfrm>
          <a:prstGeom prst="ellipse">
            <a:avLst/>
          </a:prstGeom>
          <a:gradFill rotWithShape="0">
            <a:gsLst>
              <a:gs pos="0">
                <a:srgbClr val="b6cee8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200" descr=""/>
          <p:cNvPicPr/>
          <p:nvPr/>
        </p:nvPicPr>
        <p:blipFill>
          <a:blip r:embed="rId3"/>
          <a:stretch/>
        </p:blipFill>
        <p:spPr>
          <a:xfrm>
            <a:off x="38160" y="282600"/>
            <a:ext cx="1380960" cy="70308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3"/>
          <p:cNvSpPr>
            <a:spLocks noGrp="1"/>
          </p:cNvSpPr>
          <p:nvPr>
            <p:ph type="sldNum" idx="1"/>
          </p:nvPr>
        </p:nvSpPr>
        <p:spPr>
          <a:xfrm>
            <a:off x="6759720" y="61495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FC487-59F2-49CA-9BA0-96308601B95E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ct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3"/>
          <p:cNvSpPr/>
          <p:nvPr/>
        </p:nvSpPr>
        <p:spPr>
          <a:xfrm>
            <a:off x="6759720" y="614988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3131A-5265-45FD-BE5C-6E4BD5868557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660320" y="169560"/>
            <a:ext cx="6924600" cy="834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GEO Task US-09-01a</a:t>
            </a:r>
            <a:br>
              <a:rPr sz="32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Health </a:t>
            </a: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SBA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2" name="Rectangle 4"/>
          <p:cNvSpPr/>
          <p:nvPr/>
        </p:nvSpPr>
        <p:spPr>
          <a:xfrm>
            <a:off x="401760" y="1463760"/>
            <a:ext cx="8370720" cy="545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BA:  Health – Air Qu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alyst:  Rudolf Husar, Washington University/Lanter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-Analyst: Stefan Falke, Wash. U./Northrop Grumma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urrent Status of Repor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waiting feedback from Task Lead &amp; some AQ memb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te Final Report will be completed (if not already)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ril/May 2010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58960" y="131400"/>
            <a:ext cx="6851520" cy="53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ub-Areas Analyzed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349200" y="939600"/>
            <a:ext cx="8462880" cy="47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ope Focus: Air Qu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6759720" y="614988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D7130-0F72-4162-B640-A7D4E7772922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76200" y="3787920"/>
            <a:ext cx="4417920" cy="2476440"/>
          </a:xfrm>
          <a:prstGeom prst="rect">
            <a:avLst/>
          </a:prstGeom>
          <a:ln w="0">
            <a:noFill/>
          </a:ln>
        </p:spPr>
      </p:pic>
      <p:sp>
        <p:nvSpPr>
          <p:cNvPr id="57" name="Content Placeholder 2"/>
          <p:cNvSpPr/>
          <p:nvPr/>
        </p:nvSpPr>
        <p:spPr>
          <a:xfrm>
            <a:off x="5378400" y="3900600"/>
            <a:ext cx="3571920" cy="258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2600" indent="-28260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Q Observation  Sub-Ar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ollutant Paramet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bservation Cove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bservation Strategy/Ut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Content Placeholder 2"/>
          <p:cNvSpPr/>
          <p:nvPr/>
        </p:nvSpPr>
        <p:spPr>
          <a:xfrm>
            <a:off x="398520" y="1689120"/>
            <a:ext cx="4824360" cy="49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2600" indent="-2826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cience-based AQ System Subare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missions, Primary/Second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mbient Concentr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58960" y="131400"/>
            <a:ext cx="6851520" cy="53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Prioritization Methodology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01400" y="1147680"/>
            <a:ext cx="8381880" cy="513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oritization uses three independent (orthogonal) measures of EO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llutants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hat is the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health effect potency of the pollutan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verage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patial-temporal cover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the EOs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tility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pplicability of the EO for multiple aspects of AQ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Os are ranked by each measure individually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The overall priority i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ubjectively weighed sum of the 3-dimensional ranking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Slide Number Placeholder 3"/>
          <p:cNvSpPr/>
          <p:nvPr/>
        </p:nvSpPr>
        <p:spPr>
          <a:xfrm>
            <a:off x="6759720" y="614988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75FAF-20AA-48DD-BFAF-E9723D593ADD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4784760" y="1179360"/>
            <a:ext cx="4078080" cy="208620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12"/>
          <p:cNvSpPr/>
          <p:nvPr/>
        </p:nvSpPr>
        <p:spPr>
          <a:xfrm>
            <a:off x="246240" y="1089000"/>
            <a:ext cx="8721720" cy="2214720"/>
          </a:xfrm>
          <a:prstGeom prst="rect">
            <a:avLst/>
          </a:prstGeom>
          <a:solidFill>
            <a:srgbClr val="ffff00">
              <a:alpha val="11000"/>
            </a:srgbClr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58960" y="131400"/>
            <a:ext cx="6851520" cy="53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Prioritization Methodology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258840" y="1601640"/>
            <a:ext cx="4394160" cy="161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llutants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WHO Guidelines Identifies pollutants and their max val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asur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 Gap between health needs and obs. frequ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Slide Number Placeholder 3"/>
          <p:cNvSpPr/>
          <p:nvPr/>
        </p:nvSpPr>
        <p:spPr>
          <a:xfrm>
            <a:off x="6759720" y="614988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4DC35-0B34-4CC5-9819-17719B1D7545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Content Placeholder 2"/>
          <p:cNvSpPr/>
          <p:nvPr/>
        </p:nvSpPr>
        <p:spPr>
          <a:xfrm>
            <a:off x="298440" y="5619600"/>
            <a:ext cx="848844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2600" indent="-28260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tility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EO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application in multiple segments of the AQ sy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asur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Number of applications to AQ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Content Placeholder 2"/>
          <p:cNvSpPr/>
          <p:nvPr/>
        </p:nvSpPr>
        <p:spPr>
          <a:xfrm>
            <a:off x="349200" y="6469200"/>
            <a:ext cx="815184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260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Arial"/>
                <a:ea typeface="ＭＳ Ｐゴシック"/>
              </a:rPr>
              <a:t>Note:</a:t>
            </a:r>
            <a:r>
              <a:rPr b="0" lang="en-US" sz="1600" spc="-1" strike="noStrike">
                <a:solidFill>
                  <a:srgbClr val="008000"/>
                </a:solidFill>
                <a:latin typeface="Arial"/>
                <a:ea typeface="ＭＳ Ｐゴシック"/>
              </a:rPr>
              <a:t> Bibliometric data used only as a backup/consistency check in the prioritiz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9"/>
          <p:cNvSpPr/>
          <p:nvPr/>
        </p:nvSpPr>
        <p:spPr>
          <a:xfrm>
            <a:off x="258840" y="3705120"/>
            <a:ext cx="4613040" cy="14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verage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AQ monitoring by country/conti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asur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 Gap in monitoring/pers. between developed and developing count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10"/>
          <p:cNvSpPr/>
          <p:nvPr/>
        </p:nvSpPr>
        <p:spPr>
          <a:xfrm>
            <a:off x="1658880" y="738360"/>
            <a:ext cx="662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l Approach: Gap 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4898880" y="3502080"/>
            <a:ext cx="4024440" cy="190188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13"/>
          <p:cNvSpPr/>
          <p:nvPr/>
        </p:nvSpPr>
        <p:spPr>
          <a:xfrm>
            <a:off x="271440" y="3533760"/>
            <a:ext cx="8709120" cy="1908360"/>
          </a:xfrm>
          <a:prstGeom prst="rect">
            <a:avLst/>
          </a:prstGeom>
          <a:solidFill>
            <a:srgbClr val="ccffcc">
              <a:alpha val="11000"/>
            </a:srgbClr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4"/>
          <p:cNvSpPr/>
          <p:nvPr/>
        </p:nvSpPr>
        <p:spPr>
          <a:xfrm>
            <a:off x="255600" y="5662440"/>
            <a:ext cx="8709120" cy="765360"/>
          </a:xfrm>
          <a:prstGeom prst="rect">
            <a:avLst/>
          </a:prstGeom>
          <a:solidFill>
            <a:srgbClr val="008000">
              <a:alpha val="11000"/>
            </a:srgbClr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758960" y="131400"/>
            <a:ext cx="7182000" cy="53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Priority Observations for AQ-Health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466560" y="1152360"/>
          <a:ext cx="8267760" cy="5131080"/>
        </p:xfrm>
        <a:graphic>
          <a:graphicData uri="http://schemas.openxmlformats.org/drawingml/2006/table">
            <a:tbl>
              <a:tblPr/>
              <a:tblGrid>
                <a:gridCol w="1982880"/>
                <a:gridCol w="1071720"/>
                <a:gridCol w="1392120"/>
                <a:gridCol w="857160"/>
                <a:gridCol w="963720"/>
                <a:gridCol w="865080"/>
                <a:gridCol w="1135080"/>
              </a:tblGrid>
              <a:tr h="185760">
                <a:tc rowSpan="2"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s. Categor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amet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atial Priorit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  <a:tc gridSpan="4"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ggregated Observation Characteristic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3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atial Resolu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mporal Resolu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urac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tenc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576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er 1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204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bient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M</a:t>
                      </a:r>
                      <a:r>
                        <a:rPr b="0" lang="en-US" sz="11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.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frica, Asi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km city   10km rur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-h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-2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-3 hour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</a:tr>
              <a:tr h="39240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bient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</a:t>
                      </a:r>
                      <a:r>
                        <a:rPr b="0" lang="en-US" sz="11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frica, Asi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km city   10km rur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-h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-2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-3 hour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</a:tr>
              <a:tr h="36504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bient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r>
                        <a:rPr b="0" lang="en-US" sz="11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frica, Asi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km city   10km rur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-h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-2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-3 hour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</a:tr>
              <a:tr h="36504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bient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r>
                        <a:rPr b="0" lang="en-US" sz="11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frica, Asi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km city   10km rur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-h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-2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-3 hour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</a:tr>
              <a:tr h="36360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bient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M</a:t>
                      </a:r>
                      <a:r>
                        <a:rPr b="0" lang="en-US" sz="11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frica, Asi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km city   10km rur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-h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-2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-3 hour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</a:tr>
              <a:tr h="18576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576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er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980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bient, Emissions, SR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umn PM</a:t>
                      </a:r>
                      <a:r>
                        <a:rPr b="0" lang="en-US" sz="11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.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lob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-10 k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-h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-3 hour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0016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bient, Emissions, SR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umn SO</a:t>
                      </a:r>
                      <a:r>
                        <a:rPr b="0" lang="en-US" sz="11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lob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-10 k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-h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-3 hour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0016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bient, Emissions, SR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umn NO</a:t>
                      </a:r>
                      <a:r>
                        <a:rPr b="0" lang="en-US" sz="11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lob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-10 k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-h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-3 hour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9980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bient, Emissions, SR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umn O</a:t>
                      </a:r>
                      <a:r>
                        <a:rPr b="0" lang="en-US" sz="11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lob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-10 k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-h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-3 hour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0016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bien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M</a:t>
                      </a:r>
                      <a:r>
                        <a:rPr b="0" lang="en-US" sz="11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lob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-10 k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-h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-2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-3 hour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8576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576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er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576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osur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pula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lob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km city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yea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8576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bien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ather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lob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-10 k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-h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-3 hour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1744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bient, Emissions, SR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M</a:t>
                      </a:r>
                      <a:r>
                        <a:rPr b="0" lang="en-US" sz="11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.5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Comp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lob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-10 k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-hr; 1-da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-2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-3 week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85760">
                <a:tc>
                  <a:txBody>
                    <a:bodyPr lIns="8280" rIns="8280" tIns="828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mission, SRR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C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lob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-10 k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-hr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-2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-3 week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76" name="Slide Number Placeholder 3"/>
          <p:cNvSpPr/>
          <p:nvPr/>
        </p:nvSpPr>
        <p:spPr>
          <a:xfrm>
            <a:off x="6759720" y="614988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C1AEF-9786-422E-9033-92D994C823C7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58960" y="131400"/>
            <a:ext cx="7138800" cy="53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Analyst Feedback on Methodology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588960" y="1290600"/>
            <a:ext cx="8423280" cy="513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Systems and Gap analysis is based on science and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Science and data may not be availab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bilit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Applicable to well-defined SBA apps, e.g. agriculture, some disasters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mmended for futur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? Yes, the science/gap approach for user requirements is applicable to the next phases of US-090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Slide Number Placeholder 3"/>
          <p:cNvSpPr/>
          <p:nvPr/>
        </p:nvSpPr>
        <p:spPr>
          <a:xfrm>
            <a:off x="6759720" y="614988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0D026-F937-4C3B-BB55-305E04CA47C1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758960" y="131400"/>
            <a:ext cx="6851520" cy="53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Interpretation of Results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3600" y="1290600"/>
            <a:ext cx="8355240" cy="513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list of the main air pollutants is established through national and international standards and guidelines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PM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</a:rPr>
              <a:t>2.5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he per capita AQ monitoring in the developing regions is 10-20 times lower than in the developed North America and Western Europ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PM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</a:rPr>
              <a:t>2.5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the best available indicator of health-related effects, is virtually unmonitored in the developing world, and even the existing monitoring data are not accessi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nce, there is a n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eed t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extend AQ monitoring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esp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PM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</a:rPr>
              <a:t>2.5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in th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nsely populated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developing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ions and to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improv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acces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or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science, AQ management, and the general public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Slide Number Placeholder 3"/>
          <p:cNvSpPr/>
          <p:nvPr/>
        </p:nvSpPr>
        <p:spPr>
          <a:xfrm>
            <a:off x="6759720" y="614988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06550-044C-47EE-B6CB-12D4EBAA3A6B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58960" y="131400"/>
            <a:ext cx="6851520" cy="53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Limitations/ Caveats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622440" y="1023840"/>
            <a:ext cx="819936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73960" indent="-2739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iase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3960" indent="-273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Analyst is professionally promoting data dissemination; improved data accessibility recommendation is self-serv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3960" indent="-273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tto for focus on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PM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</a:rPr>
              <a:t>2.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3960" indent="-273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3960" indent="-2739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mitati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3960" indent="-273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nitoring coverage gap analysis is clearly incomple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3960" indent="-273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edback from Advisory Group margi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3960" indent="-273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3960" indent="-2739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nkag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3960" indent="-273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alth SBA sub-areas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fectious Disease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eroallerge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3960" indent="-273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 the causal side, AQ is linked to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Energ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Disaster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fires, dust storms, volcanoes)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Weathe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the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Climat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BA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3960" indent="-273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Q is influencing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Ecosystems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Agricultural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plant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3960" indent="-2739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Slide Number Placeholder 3"/>
          <p:cNvSpPr/>
          <p:nvPr/>
        </p:nvSpPr>
        <p:spPr>
          <a:xfrm>
            <a:off x="6759720" y="614988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A1073-CA87-4ABF-8E8B-1A96C3141C88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2T06:10:36Z</dcterms:created>
  <dc:creator>NASA HQ USER</dc:creator>
  <dc:description/>
  <dc:language>en-US</dc:language>
  <cp:lastModifiedBy>Rudolf Husar</cp:lastModifiedBy>
  <dcterms:modified xsi:type="dcterms:W3CDTF">2010-02-23T00:14:26Z</dcterms:modified>
  <cp:revision>344</cp:revision>
  <dc:subject/>
  <dc:title>Applied Sciences Program: Decision Support through Earth Science Results  Step 1 Review Board  ————  Cooperative Agreement Notice Released:  Sept. 17, 2004 </dc:title>
</cp:coreProperties>
</file>